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043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0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68560" y="677520"/>
            <a:ext cx="4520880" cy="339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914400" y="4295880"/>
            <a:ext cx="502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B5D8-39D0-4D28-A3DC-788D31D1CB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58960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58960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48BF-2543-4853-8E9B-820DB024F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1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55D5-13ED-44B0-A0BE-7B14EDD584FE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0/26</a:t>
            </a:fld>
            <a:endParaRPr b="0" lang="en-US" sz="1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3886200" y="858996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9E87-2300-461E-B344-AC118775ADC0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68560" y="677880"/>
            <a:ext cx="4520880" cy="3390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295880"/>
            <a:ext cx="50292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34A9-E820-4D17-BBB2-F7A9D074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3114-BCAB-4D1F-9697-A2077EF0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5647-F3B7-464B-A60B-F8ADA833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EFD5-FF8D-4718-BD2B-96BB7640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75A6-4822-4671-8AB5-C89C6D99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8D06-EF47-4475-8ACA-E3D1BE2D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05FF-0864-4676-8B38-2F11AF5D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6472-8794-4B3A-B1A3-C274AC4C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F3F9-CD29-4CEA-B6A4-B062B09B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554E-BA45-4C31-A4CA-DE05A4E9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D1FE-F811-4DFA-B1F6-D6212BFD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4C01-E50B-4D7A-A139-271FD7DB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F567-CF7C-4DAF-A4CA-A189BC44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5E5E-910E-4504-8DC3-969D89B7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B9A3-CE59-4EF0-8C5C-AB0298C9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63B3-A519-436C-9A36-2C9911D9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0115-B890-44EA-BF24-0225A9E2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F69D-007B-4FA3-A3E9-A94B1BEA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3D77-7F97-4269-86D8-0DB9A69E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1DF6-949E-49D8-9D18-8E37E4EB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FC3C-CFDF-42CA-94A0-078104B0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5A00-84E5-49BF-B7F2-EE0C37FC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770E-10A7-4A8E-A0D6-8BA827A9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892D-306D-46FF-B243-299FDF34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prstGeom prst="pie">
            <a:avLst/>
          </a:pr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B1B7-7E22-450E-B717-4337EF4220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rc 3"/>
          <p:cNvSpPr/>
          <p:nvPr/>
        </p:nvSpPr>
        <p:spPr>
          <a:xfrm>
            <a:off x="0" y="843120"/>
            <a:ext cx="2895480" cy="6018120"/>
          </a:xfrm>
          <a:prstGeom prst="pie">
            <a:avLst/>
          </a:pr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4B37-FA53-46A8-B1B9-8F0FA2432F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1219320" y="1295280"/>
            <a:ext cx="7010280" cy="3904560"/>
          </a:xfrm>
          <a:prstGeom prst="rect">
            <a:avLst/>
          </a:prstGeom>
          <a:solidFill>
            <a:srgbClr val="cecffa"/>
          </a:solidFill>
          <a:ln w="38160">
            <a:solidFill>
              <a:srgbClr val="0f12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The Quality of Life Index (QLI)</a:t>
            </a:r>
            <a:endParaRPr b="0" lang="en-US" sz="6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Social Watch Philippines Monitoring Initiatives</a:t>
            </a:r>
            <a:endParaRPr b="0" lang="en-US" sz="4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719520" y="6518160"/>
            <a:ext cx="15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838080" y="457200"/>
            <a:ext cx="7391520" cy="861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Quality of Life Index (QLI)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  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Wingdings"/>
                <a:ea typeface="Wingdings"/>
              </a:rPr>
              <a:t>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asic Capabilities Index (BCI)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838080" y="1828800"/>
            <a:ext cx="7315200" cy="4343400"/>
          </a:xfrm>
          <a:prstGeom prst="rect">
            <a:avLst/>
          </a:prstGeom>
          <a:solidFill>
            <a:srgbClr val="ccecff"/>
          </a:solidFill>
          <a:ln w="414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82"/>
                </a:solidFill>
                <a:latin typeface="Times New Roman"/>
                <a:ea typeface="Times New Roman"/>
              </a:rPr>
              <a:t>QLI was adopted by Social Watch International with a slight modification of the Component Indicator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1) </a:t>
            </a:r>
            <a:r>
              <a:rPr b="1" lang="en-US" sz="2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db2507"/>
                </a:solidFill>
                <a:latin typeface="Verdana"/>
                <a:ea typeface="Times New Roman"/>
              </a:rPr>
              <a:t>Under-five child mortality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2)  </a:t>
            </a:r>
            <a:r>
              <a:rPr b="1" lang="en-US" sz="2000" spc="-1" strike="noStrike">
                <a:solidFill>
                  <a:srgbClr val="db2507"/>
                </a:solidFill>
                <a:latin typeface="Verdana"/>
                <a:ea typeface="Times New Roman"/>
              </a:rPr>
              <a:t>Births attended by trained health personnel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3)  </a:t>
            </a:r>
            <a:r>
              <a:rPr b="1" lang="en-US" sz="2000" spc="-1" strike="noStrike">
                <a:solidFill>
                  <a:srgbClr val="db2507"/>
                </a:solidFill>
                <a:latin typeface="Verdana"/>
                <a:ea typeface="Times New Roman"/>
              </a:rPr>
              <a:t>Elementary Cohort Survival Rate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82"/>
                </a:solidFill>
                <a:latin typeface="Verdana"/>
                <a:ea typeface="Times New Roman"/>
              </a:rPr>
              <a:t>Applied Globally and found to be applicable for significant number of countries and highly correlated to HDI, Food Security, overall Health and Educational Attainment.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</a:rPr>
              <a:t>  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&lt; 5 mortality ra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asures the proportion of severely &amp; moderately underweight children  &lt; 5 years ol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ollows the WHO weight-for-age standard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rrelated  to infant mortality, immunization coverage, access to safe water &amp; sanitary faciliti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IFE EXPENCTANCY &amp; HEALTH SERVIC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pability to be well-nourishe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ttended Birth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liveries attended by trained health professionals – doctors, nurses and midwiv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enerated  by the Field health Service Information system of the DO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apability for healthy reproduc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lementary CS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asures the proportion of enrollees in Grade 1 who reached Grade 6 after 6 years of school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mpiled by schools, municipalities, schools divis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trong correlation with participation rate, functional literacy, achievement tests rat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DUCATION PERFORMANC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PABILITY TO BE EDUCATED &amp; BE KNOWLEDGEABL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Human Devt Index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ife expectancy at birt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dult literac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DP per capit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QLI, Income &amp; HDI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QLI is strongly associated with incom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QLI measures well-being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urely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in terms of capabilit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DI combines income and basic capabiliti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745"/>
          <p:cNvSpPr/>
          <p:nvPr/>
        </p:nvSpPr>
        <p:spPr>
          <a:xfrm>
            <a:off x="1447920" y="380880"/>
            <a:ext cx="48765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Provincial QLI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Top 15 Provinces</a:t>
            </a:r>
            <a:endParaRPr b="0" lang="en-US" sz="16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47920" y="1447920"/>
          <a:ext cx="662940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447920"/>
                    <a:ext cx="66294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06"/>
          <p:cNvSpPr/>
          <p:nvPr/>
        </p:nvSpPr>
        <p:spPr>
          <a:xfrm>
            <a:off x="1447920" y="380880"/>
            <a:ext cx="48765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Provincial QLI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Bottom 15 Provinces</a:t>
            </a:r>
            <a:endParaRPr b="0" lang="en-US" sz="16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09480" y="1447920"/>
          <a:ext cx="7772400" cy="516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772400" cy="51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rcRect l="1808" t="1162" r="1808" b="1162"/>
          <a:stretch/>
        </p:blipFill>
        <p:spPr>
          <a:xfrm>
            <a:off x="4313160" y="0"/>
            <a:ext cx="4830840" cy="66294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40384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Quality of Life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440" y="251460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hilippines, 1999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grpSp>
        <p:nvGrpSpPr>
          <p:cNvPr id="145" name="Group 5"/>
          <p:cNvGrpSpPr/>
          <p:nvPr/>
        </p:nvGrpSpPr>
        <p:grpSpPr>
          <a:xfrm>
            <a:off x="1193760" y="4114800"/>
            <a:ext cx="3378240" cy="2000160"/>
            <a:chOff x="1193760" y="4114800"/>
            <a:chExt cx="3378240" cy="2000160"/>
          </a:xfrm>
        </p:grpSpPr>
        <p:sp>
          <p:nvSpPr>
            <p:cNvPr id="146" name="Rectangle 6"/>
            <p:cNvSpPr/>
            <p:nvPr/>
          </p:nvSpPr>
          <p:spPr>
            <a:xfrm>
              <a:off x="1216440" y="4209840"/>
              <a:ext cx="638640" cy="152640"/>
            </a:xfrm>
            <a:prstGeom prst="rect">
              <a:avLst/>
            </a:prstGeom>
            <a:solidFill>
              <a:srgbClr val="fdf5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1193760" y="4572000"/>
              <a:ext cx="639000" cy="171360"/>
            </a:xfrm>
            <a:prstGeom prst="rect">
              <a:avLst/>
            </a:prstGeom>
            <a:solidFill>
              <a:srgbClr val="fec88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1193760" y="5029200"/>
              <a:ext cx="639000" cy="171360"/>
            </a:xfrm>
            <a:prstGeom prst="rect">
              <a:avLst/>
            </a:prstGeom>
            <a:solidFill>
              <a:srgbClr val="feb1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1193760" y="5429160"/>
              <a:ext cx="639000" cy="171360"/>
            </a:xfrm>
            <a:prstGeom prst="rect">
              <a:avLst/>
            </a:prstGeom>
            <a:solidFill>
              <a:srgbClr val="ff9b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1193760" y="5829120"/>
              <a:ext cx="639000" cy="171720"/>
            </a:xfrm>
            <a:prstGeom prst="rect">
              <a:avLst/>
            </a:prstGeom>
            <a:solidFill>
              <a:srgbClr val="bebeb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51" name="Text Box 11"/>
            <p:cNvSpPr/>
            <p:nvPr/>
          </p:nvSpPr>
          <p:spPr>
            <a:xfrm>
              <a:off x="2106720" y="4114800"/>
              <a:ext cx="246528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479 - 0.60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601 - 0.70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701 - 0.80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801 - 0.908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Missing data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sp>
        <p:nvSpPr>
          <p:cNvPr id="152" name="Text Box 12"/>
          <p:cNvSpPr/>
          <p:nvPr/>
        </p:nvSpPr>
        <p:spPr>
          <a:xfrm>
            <a:off x="762120" y="3808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8b071d"/>
                </a:solidFill>
                <a:uFillTx/>
                <a:latin typeface="Arial Unicode MS"/>
                <a:ea typeface="Arial Unicode MS"/>
              </a:rPr>
              <a:t>National Level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rcRect l="1808" t="1162" r="1808" b="1162"/>
          <a:stretch/>
        </p:blipFill>
        <p:spPr>
          <a:xfrm>
            <a:off x="4541760" y="0"/>
            <a:ext cx="4602240" cy="67896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939960" y="4324320"/>
            <a:ext cx="711000" cy="171360"/>
          </a:xfrm>
          <a:prstGeom prst="rect">
            <a:avLst/>
          </a:prstGeom>
          <a:solidFill>
            <a:srgbClr val="fdf5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939960" y="4667400"/>
            <a:ext cx="711000" cy="171360"/>
          </a:xfrm>
          <a:prstGeom prst="rect">
            <a:avLst/>
          </a:prstGeom>
          <a:solidFill>
            <a:srgbClr val="fec8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939960" y="5124600"/>
            <a:ext cx="711000" cy="171360"/>
          </a:xfrm>
          <a:prstGeom prst="rect">
            <a:avLst/>
          </a:prstGeom>
          <a:solidFill>
            <a:srgbClr val="feb1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939960" y="5524560"/>
            <a:ext cx="711000" cy="171360"/>
          </a:xfrm>
          <a:prstGeom prst="rect">
            <a:avLst/>
          </a:prstGeom>
          <a:solidFill>
            <a:srgbClr val="ff9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939960" y="5924520"/>
            <a:ext cx="711000" cy="171360"/>
          </a:xfrm>
          <a:prstGeom prst="rect">
            <a:avLst/>
          </a:prstGeom>
          <a:solidFill>
            <a:srgbClr val="bebe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946240" y="3828960"/>
            <a:ext cx="2133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1854360" y="4267080"/>
            <a:ext cx="294624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532 - 0.600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601 - 0.700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701 - 0.800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801 - 0.642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Missing data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762120" y="2590560"/>
            <a:ext cx="31240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icol Region, 1999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0" y="1219320"/>
            <a:ext cx="44956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Quality of Life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-270720" y="304920"/>
            <a:ext cx="5763240" cy="520560"/>
          </a:xfrm>
          <a:prstGeom prst="rect">
            <a:avLst/>
          </a:prstGeom>
          <a:solidFill>
            <a:srgbClr val="0f1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Unicode MS"/>
              </a:rPr>
              <a:t>Regional Level Monitoring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066680" y="533520"/>
            <a:ext cx="77724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 Unicode MS"/>
              </a:rPr>
              <a:t>Social Watch Philippines 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 Unicode MS"/>
              </a:rPr>
              <a:t>Initiatives in Social Development Monitoring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3" name="Line 3"/>
          <p:cNvSpPr/>
          <p:nvPr/>
        </p:nvSpPr>
        <p:spPr>
          <a:xfrm>
            <a:off x="1143000" y="1676520"/>
            <a:ext cx="739152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143000" y="1981080"/>
            <a:ext cx="7391520" cy="825480"/>
          </a:xfrm>
          <a:prstGeom prst="rect">
            <a:avLst/>
          </a:prstGeom>
          <a:solidFill>
            <a:srgbClr val="0f1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fd7ff"/>
                </a:solidFill>
                <a:uFillTx/>
                <a:latin typeface="Comic Sans MS"/>
              </a:rPr>
              <a:t>Locating the Role of MONITORING in the Advocacy Work of Social Watch Philippines…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143000" y="3124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04de"/>
                </a:solidFill>
                <a:uFillTx/>
                <a:latin typeface="Arial Unicode MS"/>
              </a:rPr>
              <a:t>Monitoring…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pSp>
        <p:nvGrpSpPr>
          <p:cNvPr id="96" name="Group 6"/>
          <p:cNvGrpSpPr/>
          <p:nvPr/>
        </p:nvGrpSpPr>
        <p:grpSpPr>
          <a:xfrm>
            <a:off x="1676520" y="3581280"/>
            <a:ext cx="4038480" cy="749160"/>
            <a:chOff x="1676520" y="3581280"/>
            <a:chExt cx="4038480" cy="749160"/>
          </a:xfrm>
        </p:grpSpPr>
        <p:sp>
          <p:nvSpPr>
            <p:cNvPr id="97" name="Rectangle 7"/>
            <p:cNvSpPr/>
            <p:nvPr/>
          </p:nvSpPr>
          <p:spPr>
            <a:xfrm>
              <a:off x="2362320" y="380988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40ca8"/>
                  </a:solidFill>
                  <a:uFillTx/>
                  <a:latin typeface="Arial Unicode MS"/>
                </a:rPr>
                <a:t>Engagement…</a:t>
              </a:r>
              <a:endParaRPr b="0" lang="en-US" sz="28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98" name="AutoShape 8"/>
            <p:cNvSpPr/>
            <p:nvPr/>
          </p:nvSpPr>
          <p:spPr>
            <a:xfrm>
              <a:off x="1676520" y="3581280"/>
              <a:ext cx="533160" cy="60984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106560 h 609840"/>
                <a:gd name="textAreaBottom" fmla="*/ 44208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99" name="Group 9"/>
          <p:cNvGrpSpPr/>
          <p:nvPr/>
        </p:nvGrpSpPr>
        <p:grpSpPr>
          <a:xfrm>
            <a:off x="3276720" y="4267080"/>
            <a:ext cx="5105160" cy="673200"/>
            <a:chOff x="3276720" y="4267080"/>
            <a:chExt cx="5105160" cy="673200"/>
          </a:xfrm>
        </p:grpSpPr>
        <p:sp>
          <p:nvSpPr>
            <p:cNvPr id="100" name="Rectangle 10"/>
            <p:cNvSpPr/>
            <p:nvPr/>
          </p:nvSpPr>
          <p:spPr>
            <a:xfrm>
              <a:off x="3962520" y="4419720"/>
              <a:ext cx="44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30a8f"/>
                  </a:solidFill>
                  <a:uFillTx/>
                  <a:latin typeface="Arial Unicode MS"/>
                </a:rPr>
                <a:t>Influencing Policy …</a:t>
              </a:r>
              <a:endParaRPr b="0" lang="en-US" sz="28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01" name="AutoShape 11"/>
            <p:cNvSpPr/>
            <p:nvPr/>
          </p:nvSpPr>
          <p:spPr>
            <a:xfrm>
              <a:off x="3276720" y="4267080"/>
              <a:ext cx="533160" cy="60984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106560 h 609840"/>
                <a:gd name="textAreaBottom" fmla="*/ 44208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02" name="Group 12"/>
          <p:cNvGrpSpPr/>
          <p:nvPr/>
        </p:nvGrpSpPr>
        <p:grpSpPr>
          <a:xfrm>
            <a:off x="1066680" y="4648320"/>
            <a:ext cx="7467840" cy="1617120"/>
            <a:chOff x="1066680" y="4648320"/>
            <a:chExt cx="7467840" cy="1617120"/>
          </a:xfrm>
        </p:grpSpPr>
        <p:sp>
          <p:nvSpPr>
            <p:cNvPr id="103" name="Rectangle 13"/>
            <p:cNvSpPr/>
            <p:nvPr/>
          </p:nvSpPr>
          <p:spPr>
            <a:xfrm>
              <a:off x="1066680" y="5257800"/>
              <a:ext cx="6858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 u="sng">
                  <a:solidFill>
                    <a:srgbClr val="002346"/>
                  </a:solidFill>
                  <a:uFillTx/>
                  <a:latin typeface="Arial Unicode MS"/>
                </a:rPr>
                <a:t>Facilitate Participation in Development</a:t>
              </a:r>
              <a:endParaRPr b="0" lang="en-US" sz="3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04" name="AutoShape 14"/>
            <p:cNvSpPr/>
            <p:nvPr/>
          </p:nvSpPr>
          <p:spPr>
            <a:xfrm>
              <a:off x="7772400" y="4648320"/>
              <a:ext cx="762120" cy="1143000"/>
            </a:xfrm>
            <a:custGeom>
              <a:avLst/>
              <a:gdLst>
                <a:gd name="textAreaLeft" fmla="*/ 101880 w 762120"/>
                <a:gd name="textAreaRight" fmla="*/ 660240 w 762120"/>
                <a:gd name="textAreaTop" fmla="*/ 199800 h 1143000"/>
                <a:gd name="textAreaBottom" fmla="*/ 828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23520" y="1028880"/>
            <a:ext cx="175284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286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1371600" y="4038480"/>
            <a:ext cx="2438280" cy="1935360"/>
            <a:chOff x="1371600" y="4038480"/>
            <a:chExt cx="2438280" cy="1935360"/>
          </a:xfrm>
        </p:grpSpPr>
        <p:sp>
          <p:nvSpPr>
            <p:cNvPr id="167" name="Text Box 5"/>
            <p:cNvSpPr/>
            <p:nvPr/>
          </p:nvSpPr>
          <p:spPr>
            <a:xfrm>
              <a:off x="2387520" y="4038480"/>
              <a:ext cx="142236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536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56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581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687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731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1371600" y="4095720"/>
              <a:ext cx="749520" cy="122040"/>
            </a:xfrm>
            <a:prstGeom prst="rect">
              <a:avLst/>
            </a:prstGeom>
            <a:solidFill>
              <a:srgbClr val="fdf5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1371600" y="4552920"/>
              <a:ext cx="749520" cy="122040"/>
            </a:xfrm>
            <a:prstGeom prst="rect">
              <a:avLst/>
            </a:prstGeom>
            <a:solidFill>
              <a:srgbClr val="fec88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1371600" y="4952880"/>
              <a:ext cx="749520" cy="122040"/>
            </a:xfrm>
            <a:prstGeom prst="rect">
              <a:avLst/>
            </a:prstGeom>
            <a:solidFill>
              <a:srgbClr val="feb1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71" name="Rectangle 9"/>
            <p:cNvSpPr/>
            <p:nvPr/>
          </p:nvSpPr>
          <p:spPr>
            <a:xfrm>
              <a:off x="1371600" y="5352840"/>
              <a:ext cx="749520" cy="122400"/>
            </a:xfrm>
            <a:prstGeom prst="rect">
              <a:avLst/>
            </a:prstGeom>
            <a:solidFill>
              <a:srgbClr val="ff9b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>
              <a:off x="1371600" y="5752800"/>
              <a:ext cx="749520" cy="122400"/>
            </a:xfrm>
            <a:prstGeom prst="rect">
              <a:avLst/>
            </a:prstGeom>
            <a:solidFill>
              <a:srgbClr val="d46a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sp>
        <p:nvSpPr>
          <p:cNvPr id="173" name="Rectangle 11"/>
          <p:cNvSpPr/>
          <p:nvPr/>
        </p:nvSpPr>
        <p:spPr>
          <a:xfrm>
            <a:off x="2286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aphicFrame>
        <p:nvGraphicFramePr>
          <p:cNvPr id="174" name="Object 12"/>
          <p:cNvGraphicFramePr/>
          <p:nvPr/>
        </p:nvGraphicFramePr>
        <p:xfrm>
          <a:off x="4740120" y="1600200"/>
          <a:ext cx="440388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1600200"/>
                    <a:ext cx="440388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13"/>
          <p:cNvSpPr/>
          <p:nvPr/>
        </p:nvSpPr>
        <p:spPr>
          <a:xfrm>
            <a:off x="914400" y="2590920"/>
            <a:ext cx="3429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Guimaras, 2001</a:t>
            </a: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1219320"/>
            <a:ext cx="44956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Quality of Life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8" name="Rectangle 16"/>
          <p:cNvSpPr/>
          <p:nvPr/>
        </p:nvSpPr>
        <p:spPr>
          <a:xfrm>
            <a:off x="-383760" y="304920"/>
            <a:ext cx="8578080" cy="520560"/>
          </a:xfrm>
          <a:prstGeom prst="rect">
            <a:avLst/>
          </a:prstGeom>
          <a:solidFill>
            <a:srgbClr val="0f1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Unicode MS"/>
              </a:rPr>
              <a:t>Provincial and Municipal Level Monitoring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762120" y="990720"/>
            <a:ext cx="7238880" cy="4685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</a:rPr>
              <a:t>Advantages of QLI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he Index can be generated easily using indicators regularly generated by government agencies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can be computed annually without need for expensive surveys and monitoring system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pplicable and effective for both national and local level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nswers the need for data disaggregation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ensitive and highly correlated with other poverty/welfare measure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erves as an advocacy tool as it underscores the importance of human development in development planning and public investment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reas for QLI Improvemen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dicators can be modified to improve measurement sensitivity in well-being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rivatives like gender-based approach to generate QLI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ife cycle approac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828800" y="152388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209680" y="2743200"/>
            <a:ext cx="525780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99"/>
                </a:solidFill>
                <a:latin typeface="Verdana"/>
              </a:rPr>
              <a:t>THE END</a:t>
            </a:r>
            <a:endParaRPr b="0" lang="en-US" sz="7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066680" y="533520"/>
            <a:ext cx="77724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b0e77"/>
                </a:solidFill>
                <a:uFillTx/>
                <a:latin typeface="Arial Unicode MS"/>
              </a:rPr>
              <a:t>Social Watch Philippines 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b0e77"/>
                </a:solidFill>
                <a:uFillTx/>
                <a:latin typeface="Arial Unicode MS"/>
              </a:rPr>
              <a:t>Initiatives in Social Development Monitoring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1143000" y="1676520"/>
            <a:ext cx="739152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1.   Pro-Poor Monitoring System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Measuring Progress from the Lens of the Poor and the Vulnerable)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2.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 Quality of Life Index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(Developing alternative Indicators that capture key aspects of Human Development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lternative Budget Initiative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Using MDG as Framework)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4.   Local Monitoring System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Tracking Progress and Engagement at Provincial and Municipal Levels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5.   MDG Localization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Translating the the Global Goals into Local MDG Indicators, Targets, Plans and Strategies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95280" y="2971800"/>
            <a:ext cx="6934320" cy="182880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1)  Income/expenditure-based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2)  Outcome-based 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3)  Perception-based 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438280" y="1143000"/>
            <a:ext cx="4572000" cy="1068840"/>
          </a:xfrm>
          <a:prstGeom prst="rect">
            <a:avLst/>
          </a:prstGeom>
          <a:solidFill>
            <a:srgbClr val="07f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hree Broad Categories  of Poverty Measures</a:t>
            </a: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7"/>
          <p:cNvSpPr/>
          <p:nvPr/>
        </p:nvSpPr>
        <p:spPr>
          <a:xfrm>
            <a:off x="3719520" y="6518160"/>
            <a:ext cx="15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838080" y="457200"/>
            <a:ext cx="693432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 Categories of Poverty Measures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838080" y="1143000"/>
            <a:ext cx="7620120" cy="5181480"/>
          </a:xfrm>
          <a:prstGeom prst="rect">
            <a:avLst/>
          </a:prstGeom>
          <a:noFill/>
          <a:ln w="414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Income/Expenditure-Based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fficial Poverty Statistics (based on income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Fixed Level Of Living”  or FLOL (based on expenditures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World Bank’s 1$-a-day approach (PP$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 Outcome-Based 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Human Development Index (HDI)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Human Poverty Index (HPI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Capability Poverty Measure (CPM)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Gender Development Index (GDI)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Gender Empowerment Measure (GEM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 </a:t>
            </a:r>
            <a:endParaRPr b="0" lang="en-US" sz="5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 Perception-Based 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Ex: Social Weather Stations (SWS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Official Poverty Statistic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come-based approach computed from FIES data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overty incidence computed based on the poverty threshold level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hreshold level combines food and basic non-food requirements</a:t>
            </a:r>
            <a:r>
              <a:rPr b="0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Fixed Level of Living Approach (FLOL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eveloped by A. Balisacan that is expenditure-based and sets a fixed standard of living used for provincial comparison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sing </a:t>
            </a:r>
            <a:r>
              <a:rPr b="1" i="1" lang="en-US" sz="22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FLOL results to </a:t>
            </a: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ower poverty incidence compared to the official approach and different regional/provincial rankings 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One Dollar a day (PP$) Poverty Lin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World Bank approach using the poverty line of $1 a day for international comparisons; Based on this, Philippine poverty incidence remain higher than China, Indonesia, Malaysia and Thailand but better than India’s poverty level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" name="Text Box 2051"/>
          <p:cNvSpPr/>
          <p:nvPr/>
        </p:nvSpPr>
        <p:spPr>
          <a:xfrm>
            <a:off x="609480" y="304920"/>
            <a:ext cx="5639040" cy="587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me/Expenditure-Based</a:t>
            </a:r>
            <a:endParaRPr b="0" lang="en-US" sz="36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828800" y="152388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133720" y="1219320"/>
            <a:ext cx="5257800" cy="2287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 Narrow"/>
              </a:rPr>
              <a:t>Operationalizing the Quality of Life Index (QLI)</a:t>
            </a:r>
            <a:endParaRPr b="0" lang="en-US" sz="4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762120" y="441972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Local Application of QLI in monitoring poverty and well-being</a:t>
            </a: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719520" y="6518160"/>
            <a:ext cx="15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38080" y="457200"/>
            <a:ext cx="36576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y of Life Index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09480" y="1143000"/>
            <a:ext cx="7848720" cy="4343400"/>
          </a:xfrm>
          <a:prstGeom prst="rect">
            <a:avLst/>
          </a:prstGeom>
          <a:noFill/>
          <a:ln w="414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QLI is an alternative measure of people’s well-being 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33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It is a derivative of the pure capability-based measure as proposed and popularized by Amartya Sen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550"/>
              </a:spcBef>
              <a:buClr>
                <a:srgbClr val="0033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The measure assigns equal weights to three basic capabilities: 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1) </a:t>
            </a:r>
            <a:r>
              <a:rPr b="1" lang="en-US" sz="20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</a:rPr>
              <a:t>Capability to be well-nourished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ff9966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1800" spc="-1" strike="noStrike">
                <a:solidFill>
                  <a:srgbClr val="86001a"/>
                </a:solidFill>
                <a:latin typeface="Verdana"/>
                <a:ea typeface="Times New Roman"/>
              </a:rPr>
              <a:t>Under-five nutrition status</a:t>
            </a:r>
            <a:endParaRPr b="0" lang="en-US" sz="1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f9966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2) </a:t>
            </a:r>
            <a:r>
              <a:rPr b="1" lang="en-US" sz="20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</a:rPr>
              <a:t>Capability for healthy and safe reproduction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    </a:t>
            </a:r>
            <a:r>
              <a:rPr b="1" i="1" lang="en-US" sz="2200" spc="-1" strike="noStrike">
                <a:solidFill>
                  <a:srgbClr val="86001a"/>
                </a:solidFill>
                <a:latin typeface="Times New Roman"/>
                <a:ea typeface="Times New Roman"/>
              </a:rPr>
              <a:t>Births attended by trained health personne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86001a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3) Capability to be educated &amp; be knowledgeable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 </a:t>
            </a: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200" spc="-1" strike="noStrike">
                <a:solidFill>
                  <a:srgbClr val="86001a"/>
                </a:solidFill>
                <a:latin typeface="Times New Roman"/>
                <a:ea typeface="Times New Roman"/>
              </a:rPr>
              <a:t>Elementary Cohort Survival Rate</a:t>
            </a:r>
            <a:r>
              <a:rPr b="1" lang="en-US" sz="2000" spc="-1" strike="noStrike">
                <a:solidFill>
                  <a:srgbClr val="86001a"/>
                </a:solidFill>
                <a:latin typeface="Verdana"/>
                <a:ea typeface="Times New Roman"/>
              </a:rPr>
              <a:t>  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1760" y="624852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85800" y="1295280"/>
            <a:ext cx="8001000" cy="3478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</a:rPr>
              <a:t>Main Features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QLI applies a pure capability-based approach 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is consistent with existing national and international statistical system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is applicable for both national and local levels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(provinces, municipalities and barangays)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complements HDI and Income-based poverty measures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6:41:46Z</dcterms:created>
  <dc:creator>Direk</dc:creator>
  <dc:description/>
  <dc:language>en-US</dc:language>
  <cp:lastModifiedBy>anaclau</cp:lastModifiedBy>
  <dcterms:modified xsi:type="dcterms:W3CDTF">2009-10-25T07:33:26Z</dcterms:modified>
  <cp:revision>81</cp:revision>
  <dc:subject/>
  <dc:title>General</dc:title>
</cp:coreProperties>
</file>